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69B-B868-4989-A54A-85C96408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CE9-FEF3-4F62-A377-44E2B969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10C-DC15-4311-9FBB-8009A602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643-34AD-41A7-A900-49312AFE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F7C3-20AB-4761-AC6A-D9AFD35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009-2E60-48EC-98B5-CBC3A531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DD8-C0DB-47B8-97AC-3EA600A6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EC6-48DC-45D8-BE40-A3886B5B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05C-7F71-48C5-89F4-256AFD0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BB4-50B3-4193-B0D6-AD54D47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96E-1162-457A-B574-3C586A46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87A-98D7-4D7F-8B73-4C9D288C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69D7-74F6-4795-B2B6-4E66DF2C4414}" type="datetime">
              <a:rPr b="0" lang="ro-RO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Croitoru I. Miha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F472-405F-44E3-A391-E965D50A2C7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Croitoru I. Mihae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7T16:41:48Z</dcterms:created>
  <dc:creator>Mihaela</dc:creator>
  <dc:description/>
  <dc:language>en-US</dc:language>
  <cp:lastModifiedBy>Mihaela</cp:lastModifiedBy>
  <dcterms:modified xsi:type="dcterms:W3CDTF">2012-12-20T15:36:06Z</dcterms:modified>
  <cp:revision>3</cp:revision>
  <dc:subject/>
  <dc:title>PowerPoint Presentation</dc:title>
</cp:coreProperties>
</file>